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413DD-A77A-4DB7-A1F8-FB8FF9EDA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BB067-9848-46AB-A3AE-21CBD3CA3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B324D-B7FA-4F8E-B0C1-B29D7F9A5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1D98B-3FCF-4275-BB4A-F57808CAD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7C17E-14F5-4DAF-9F6A-E4CFC6F79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06AC4-3075-40B4-BDD9-8C947EA83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47506-8811-4B1A-8BA8-00DE30E33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496C1-A8A5-4408-9769-FCAAF3FD1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E9E43-6ECA-436E-854A-4C8410979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63499-026A-43FF-B9DE-7D36586FF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43A73-B0F1-4305-A11A-981E44232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2D87F-2B5F-459D-904E-073FDAE36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99509-9E60-4D19-83F2-FD2A73EE2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E79A0-C544-4765-A36F-8F904D63E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19E9E-9456-4C79-A882-0E0D51F37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CF5BB-9076-4106-AA9A-9DE85802D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DC588-E555-42B6-AB48-F71E1D722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28240-30F9-4BDB-AB86-CAB8F1088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D0CE9-DD89-498F-A366-434E05278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6109C-C4AE-44B1-BD01-549CCC0D9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351AC-80F1-4173-8C37-BC369980C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E4D1A-4ADD-4B76-9992-E76AF41D4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A7B60-0C15-46D1-A209-26EF3A838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603C0-AD51-48C3-84B6-1C22E667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E1D81-10D5-4909-BA89-B5F3D0439C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827CE-0266-4DC9-8163-A447EA1C6E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ahoma"/>
              </a:rPr>
              <a:t>The Wright Brother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By: Alex, Kara, and Abb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24160" y="524160"/>
            <a:ext cx="8095680" cy="12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irst Fligh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rst airplane was flown in Kitty Hawk, North Caroli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took them three times to finally get the right airpla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24160" y="524160"/>
            <a:ext cx="8095680" cy="12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Wright Fami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right Brother’s sister Ida died at thirteen d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right Brothers brother Otis died at eighteen d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were 7 children in the Wright Family but two of the children died at infanc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Wright Cycle Compa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fore the Wright Brothers Invented the airplane they owned a bicycle repair shop and showroom called the Wright Cycle Comp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right Cycle Company opened in 189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029200" y="2666880"/>
            <a:ext cx="3484440" cy="23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52280" y="415800"/>
            <a:ext cx="8458200" cy="57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87100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6T15:18:31Z</dcterms:created>
  <dc:creator>Montour School District</dc:creator>
  <dc:description/>
  <dc:language>en-US</dc:language>
  <cp:lastModifiedBy>Montour School District</cp:lastModifiedBy>
  <dcterms:modified xsi:type="dcterms:W3CDTF">2008-05-22T13:08:28Z</dcterms:modified>
  <cp:revision>5</cp:revision>
  <dc:subject/>
  <dc:title>The Wright Brothers</dc:title>
</cp:coreProperties>
</file>